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856BCC-A28F-4F8D-94BC-DE738354A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9A2E61-6FB7-4936-85CE-10DD5CDDDBF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463-CB04-4E83-97C3-44A622E5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DDE-F970-4A4A-991E-C801A561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73E-B3F7-4E29-B0FA-2989B412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A98-B5C5-4FE9-BCF7-31A77C5C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1A4F-0FA1-46C8-88DB-51344FCA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E808-46AE-4937-BCAA-A1183521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2706-3ECA-4BD3-90B8-8CE82944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B626-BC80-43DD-856B-D478A46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9F40-828D-41E4-8E66-4B10471C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227D-B2F6-492D-B53C-729EE4AE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9EB8-D8EF-4C0D-AE4A-310348FE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6DD-481C-47D5-8DEA-3C148119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2CB1-ECF5-417B-A0A4-8220D821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1DA5-2D33-4050-8C47-A4606C2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D69F-AC30-44B2-9666-1A962B80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B818-7909-44C2-A08A-4596E715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E4C2-8645-4058-8B71-508EAFDE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1B82-5C83-494A-93F0-18F0259C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76F-D460-4C19-92A8-C40C7E9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F1B-DE2E-47C6-934B-89F20176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BD2-23EE-4AFE-BA55-7C3D3288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F7D-786C-4FB8-82E7-6F7206A6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7DE-F284-452F-84D0-5427BC2C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42B-A904-44C8-85FE-C983164A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285CC6-2283-4553-BD27-314CBF5003D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64ED7B-E595-4D28-B856-B200055520B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lly Goats Gru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By: Gian and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upon a time there were three billy goats, who were to go up to the hillside to make themselves fat, and the name of all three was "Gruff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8" descr="images.jpeg"/>
          <p:cNvPicPr/>
          <p:nvPr/>
        </p:nvPicPr>
        <p:blipFill>
          <a:blip r:embed="rId1"/>
          <a:srcRect l="0" t="-152" r="0" b="-152"/>
          <a:stretch/>
        </p:blipFill>
        <p:spPr>
          <a:xfrm>
            <a:off x="4648320" y="1600200"/>
            <a:ext cx="403812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way up was a bridge over a cascading stream they had to cross; and under the bridge lived a great ugly troll , with eyes as big as saucers, and a nose as long as a pok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11" descr="images-1.jpeg"/>
          <p:cNvPicPr/>
          <p:nvPr/>
        </p:nvPicPr>
        <p:blipFill>
          <a:blip r:embed="rId1"/>
          <a:srcRect l="0" t="-882" r="0" b="-882"/>
          <a:stretch/>
        </p:blipFill>
        <p:spPr>
          <a:xfrm>
            <a:off x="4813200" y="1600200"/>
            <a:ext cx="403812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ing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once the first two Billy Goats Gruff got through and where safe on the hillside then came the big Billy Goat Gruf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1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m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Who's that tramping over my bridge?" roared the troll."It's I! The big Billy Goat Gruff ," said the billy goat."Now I 'm coming to gobble you up," roared the troll.Well, come along! I've got two spears, And I'll poke your eyeballs out at your ears; I've got besides two curling-stones ,And I'll crush you to bits, body and bone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59560" cy="43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lling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n he flew at the troll, and poked his eyes out with his horns, and crushed him to bits, body and bones, and tossed him out into the casc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that the big Billy Goat Gruff went up to the hillside. Then he meet up with the other Billy Goats Gruf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4691160" y="1746720"/>
            <a:ext cx="3995280" cy="437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ou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the billy goats got so fat they were scarcely able to walk home again. And if the fat hasn't fallen off them, why, they're still fat; and so,Snip, snap, snout. This tale's told out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308480" cy="43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  <Words>311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36:19Z</dcterms:created>
  <dc:creator>Gian Zenti</dc:creator>
  <dc:description/>
  <dc:language>en-US</dc:language>
  <cp:lastModifiedBy>Gian Zenti</cp:lastModifiedBy>
  <dcterms:modified xsi:type="dcterms:W3CDTF">2009-12-07T18:36:49Z</dcterms:modified>
  <cp:revision>4</cp:revision>
  <dc:subject/>
  <dc:title>The Billy Goats Gruf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7</vt:r8>
  </property>
</Properties>
</file>